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17.xml" ContentType="application/vnd.openxmlformats-officedocument.presentationml.comments+xml"/>
  <Override PartName="/ppt/comments/comment18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" initials="a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<Relationship Id="rId31" Type="http://schemas.openxmlformats.org/officeDocument/2006/relationships/commentAuthors" Target="commentAuthors.xml"/>
</Relationships>
</file>

<file path=ppt/comments/comment17.xml><?xml version="1.0" encoding="utf-8"?>
<p:cmLst xmlns:p="http://schemas.openxmlformats.org/presentationml/2006/main">
  <p:cm authorId="0" dt="2015-03-28T18:10:37.900000000" idx="1">
    <p:pos x="5616" y="864"/>
    <p:text/>
  </p:cm>
</p:cmLst>
</file>

<file path=ppt/comments/comment18.xml><?xml version="1.0" encoding="utf-8"?>
<p:cmLst xmlns:p="http://schemas.openxmlformats.org/presentationml/2006/main">
  <p:cm authorId="0" dt="2015-03-28T18:10:37.900000000" idx="2">
    <p:pos x="5616" y="864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C7755-4C3D-4E81-B4D9-A6AE72DA9B9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BA793-4234-45EA-8248-1AFED08CFE7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2B7EF-D873-46F3-B45C-3155C088F77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A3279-B67D-4919-AAC4-36E96322DE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17979-586F-4595-B6CE-5027ACDDC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AFA47-5C84-47EE-99C7-C8FCA99C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B4AB7-8BB0-4233-9FA3-91EBB0FDF0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C566D-0129-40D4-80BB-C10C1C84F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77EE1-6687-4168-9655-DD6979E36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A604D-8F36-4588-A3D8-033C4573D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6C133-905C-4BEB-A238-FDEF5B938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7BB6F-5FF6-4FD7-8CAD-894F82316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84FF1-088D-48EE-94A8-E5B4B4EDD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7AA2A-353B-42D2-AD0D-15E4F0E58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5422C-0758-4153-852E-0571A3749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8BBE9-36B6-4330-AA60-6962FA83F1A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7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8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4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4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该患者已明确为弥漫性腹膜炎，目前采取非手术治疗，予以禁食、胃肠减压等治疗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：目前观察和护理的重点内容有哪些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腹膜受炎症刺激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呕吐、禁食、腹膜广泛渗出、发热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腹膜炎或合并其他部位感染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感染性休克、腹腔脓肿、粘连性肠梗阻、切口感染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非手术治疗的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肠减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静脉输液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抗感染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症护理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需手术治疗者，应做好术前常规准备工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静脉输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抗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腔引流的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观察与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膈下脓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盆腔脓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化脓性细菌（包括需氧和厌氧菌或两者混合）所引起的腹膜腔急性炎症称急性化脓性腹膜炎。按发病机制可为原发性和继发性两种，以后者多见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主要表现为腹痛、恶心呕吐和全身感染中毒症，有明显腹膜刺激征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病因、促使腹腔炎症消退和局限，引流腹腔渗液，改善机体情况。其具体措施为：取半坐卧位（休克者除外）、禁食、补液、胃肠减压、应用抗生素及手术剖腹探查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注意观察生命体征和腹部情况，未明确诊断禁用止痛剂，半坐卧位、禁食、补液、胃肠减压、应用抗生素，作好术前护理准备。术后护理：观察生命体征、腹部情况、伤口及引流，鼓励下床活动，防止并发症发生；胃肠功能恢复后可解除胃肠减压并进食，适当应用止痛剂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右下腹突然剧烈疼痛持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入院。入院前一天晚上饮酒饱餐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因右下腹突然疼痛而醒。疼痛呈持续性，刀割样。伴恶心，呕吐数次，呕吐物为食物，无咖啡色物和鲜血，腹痛很快扩展到全腹后略有缓解，但仍以右下腹为主。无排便，小便无异常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后入住医院。既往无右下腹疼痛病史，但有反复发作的上腹反酸、嗳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痛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或少量饮食后能缓解，无黑便及呕血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38.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/7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急性面容，右侧卧位，心肺正常，腹部轻度膨隆，全腹肌紧张、拒按，以右下腹为明显，移动性浊音可疑，未闻及肠鸣音。直肠指诊：直肠窝饱满未扪及肿块，右侧触痛明显。血常规检查：白细胞计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中性粒细胞比例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8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腹部透视：全部肠曲明显充气，未见肠腔积液，膈下游离气体可疑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的诊断是什么？可能的原因是什么？如何确诊？目前主要处理措施有哪些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可能的医疗诊断是急性弥漫性腹膜炎。理由是：突发腹部剧痛、明显腹膜刺激征，既往胃病史、发病前饱餐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能是胃十二指肠溃疡穿孔，也可能是急性坏疽性阑尾炎穿孔；需要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等明确病变的部位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处理措施：禁食、补液、胃肠减压、半卧位、抗生素应用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急性化脓性腹膜炎的概念、分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出急性化脓性腹膜炎的常见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举例说明继发性腹膜炎的常见病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急性化脓性腹膜炎的转归临床表现和处理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护理程序对急性腹膜炎患者实施围术期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腹膜炎术后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化脓性腹膜炎最常见的原因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空腔脏器穿孔或破裂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腔内脏器缺血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腔内炎症扩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术污染腹腔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原发性腹膜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化脓性腹膜炎最有利于病情局限的体位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平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侧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半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中凹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头低脚高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急性胃穿孔腹膜炎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突然出现寒战、高热、出汗等全身中毒症状，并伴有上腹痛、呃逆等，患者最可能发生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切口感染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肺部感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全身感染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腹腔脓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停止胃肠减压的指征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胀加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引流液突然减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痛减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胃肠功能恢复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胃液引流过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腹膜炎的非手术疗法护理不妥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一般减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禁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胃肠减压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使用吗啡等镇痛剂止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抗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A    2.C   3.D    4.D   5.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化脓性腹膜炎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suppurative peritoniti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指由化脓性细菌（包括需氧和厌氧菌或两者混合）所引起的腹膜腔急性炎症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腹膜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rimary periton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继发性腹膜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ary periton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前突发性左上腹部剧烈疼痛，并迅速波及全腹，发病后曾呕吐两次，为胃内容物。既往有溃疡病史，近期有胃痛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体温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8.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0/6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痛苦病容，平卧屈膝被动屈膝位，腹部平坦，腹式呼吸消失，腹肌紧张，全腹有明显压痛，反跳痛，移动性浊音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叩诊肝浊音界缩小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诊断性腹腔穿刺：抽得含食物残渣的浑浊液体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常规检查显示：白细胞计数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中性粒细胞比例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8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①该患者的可能的发病原因有哪些？②护理评估的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痛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温、脉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感染中毒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部体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诊断性腹腔穿刺抽液术或腹腔灌洗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腹膜炎的发病相关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681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内脏器穿孔或破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681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腔脏器炎症扩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681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腹膜炎的发病相关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水、电解质紊乱和酸碱失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菌药物应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热量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镇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灶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理腹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6-17T09:59:29Z</dcterms:modified>
  <cp:revision>85</cp:revision>
  <dc:subject/>
  <dc:title>内科护理学</dc:title>
</cp:coreProperties>
</file>